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fontScale="95000"/>
          </a:bodyPr>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 is the study of the function and behavior of genes. Genes are bits of biochemical instructions found inside the cells of every organism from bacteria to humans. Offspring receive  a mixture of genetic information from both parents. This process contributes to the great variation of traits that we see in nature, such as the color of a flower’s petals, the markings on a butterfly’s wings, or such human behavioral traits as personality or musical talent. Geneticists seek to understand how the information encoded in genes is used and controlled by cells and how it is transmitted from one generation to the next. Geneticists also study how tiny variations in genes can disrupt an organism’s development or cause disease. Increasingly, modern genetics involves genetic engineering, a technique used by scientists to manipulate genes......</a:t>
            </a:r>
            <a:endParaRPr b="0" lang="en-US" sz="2000" spc="-1" strike="noStrike">
              <a:solidFill>
                <a:srgbClr val="000000"/>
              </a:solidFill>
              <a:latin typeface="Arial"/>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os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ec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gene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offspring receive genetic characteristics from par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geneticists stu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genetic engine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process in which genetic information is transmitted from generation to gen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described the patterns of inheri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ve psychologists and biologists long deb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an alle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use of genetic technology in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genetic achievements be mis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synonyms for each of the following word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il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ec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functio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iminato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are opposites of these word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e correct word in the following sentences from the list below:</a:t>
            </a:r>
            <a:br>
              <a:rPr sz="2400"/>
            </a:br>
            <a:r>
              <a:rPr b="0" lang="en-US" sz="2400" spc="-1" strike="noStrike">
                <a:solidFill>
                  <a:srgbClr val="000000"/>
                </a:solidFill>
                <a:latin typeface="Arial"/>
              </a:rPr>
              <a:t>unite, account, refer, lead, associate, unravel</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dity................for why offspring look like their parent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NA in a single, human cell could be........................, it would form a single thread about five feet long and about 50 trillionths of an inch thi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ts ...................with some alleles show up only under certain circumstanc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dity also....................to the inherited characteristics of an individual, including traits such as height, eye color and blood typ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sperm with an X chromosome..................with an egg, the result is a child with two X chromosomes – a fema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ject may also...............to the development of new drugs targeted to specific genetic dis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hrasal verbs in the following sentence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smoking. It’s bad for your healt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has high blood pressure. The doctor has suggested her to..................cigarettes and fatty food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 very obese person. He should....................a well-balanced die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n’t....................some exercise, you’ll have pain in your ba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must.......................taking these antibiotics if we want to feel better.</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new methods have to be.....................first and then applied.</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iscoveries in the field of gene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nes – yes or 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use of cloning techn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4T12:22:43Z</dcterms:modified>
  <cp:revision>13</cp:revision>
  <dc:subject/>
  <dc:title>Slide 1</dc:title>
</cp:coreProperties>
</file>